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BC4-0BCF-4BF9-A374-8B56AD4A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2E2-540D-45FF-B4C1-984D7DDE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5AC-1FB4-4B36-9C3A-85CC5537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642-F587-4CD4-92AB-32C36CCE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316-2124-49CA-97B7-A31AD297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19B-5EC8-4D0F-85BC-5C32A9B5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E9A-9EF1-445B-91FB-85321800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E79-5358-47D8-8186-8813D31A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D70-D88A-4DC9-9C31-BFDC8163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F27-7A29-45F2-8775-E7D3BAD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708-A25A-4943-9E0F-C54DFDD6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3DD-7020-42A2-A87D-612D622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9FC4-D21A-49D9-A213-D4DE6CE7B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school.com/atschool/academy123/html/bbapplet_wl-problem-430715.html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http://www.phschool.com/atschool/academy123/html/bbapplet_wl-problem-43096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qualities and their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09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 inequalit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1148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solution of an inequalit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835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mathematical sentence that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724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y number that makes an inequality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5257800"/>
            <a:ext cx="13316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94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1447560" cy="412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2743200"/>
            <a:ext cx="1447560" cy="426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28600" y="3657600"/>
            <a:ext cx="1523880" cy="51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80880" y="4876920"/>
            <a:ext cx="1295640" cy="55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514600" y="1828800"/>
            <a:ext cx="3454560" cy="38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590920" y="2971800"/>
            <a:ext cx="3454200" cy="38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590920" y="3809880"/>
            <a:ext cx="3454200" cy="38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2590920" y="4800600"/>
            <a:ext cx="34542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133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6019920" cy="80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04920"/>
            <a:ext cx="13716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2948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1:57:53Z</dcterms:created>
  <dc:creator>Susannah Graham</dc:creator>
  <dc:description/>
  <dc:language>en-US</dc:language>
  <cp:lastModifiedBy>grahams</cp:lastModifiedBy>
  <dcterms:modified xsi:type="dcterms:W3CDTF">2011-10-21T13:03:33Z</dcterms:modified>
  <cp:revision>11</cp:revision>
  <dc:subject/>
  <dc:title>Problem of the Day!!!</dc:title>
</cp:coreProperties>
</file>